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2A7-52CE-4AC1-9C0B-4A55E872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E53-F401-40C9-9B6F-29093A74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85A-4723-478A-988F-ED8E602B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27B-DD77-4EFE-A1E3-E73CC3A8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9679-3BB0-47FF-8E17-0DB52D96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C8B3-5751-4ED8-8D0D-587CD008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D6CE-9931-4A08-BD65-2B8D7C2E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8780-83D7-43C7-A81F-7226BFC0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80B9-E220-4423-BFC5-BB34837F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28FA-5443-41D3-8683-2421D164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6F20-055D-4D1E-992E-6D60C3EE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48D-737C-44DB-BA35-FE17EDFD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C16C-E4D1-4F7D-8102-1445EB8D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48A1-39FF-4D5B-AC78-683637FD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8A10-AC5D-4515-96F6-577FCF2B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B270-C91B-4DC2-9B24-44A175BC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BAF8-8CEC-400B-9C25-8275B648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BD0-1D98-422C-BCA4-15C2CFF4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26A-0483-4956-B3F9-ACF320EB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0ED-0BEE-452C-9C29-6191B23E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154-958E-4DD4-A3D2-313D7542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61F-A8B4-458C-9CB7-0611C4D6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E84-96E7-4C5F-9713-05720279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E05-B940-4D9E-B451-77AC6EC2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8FC5-0CA2-44AC-A234-D574EE303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12F7-E023-4BE2-93C6-F0FFC1291B9C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&amp; the English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s CHOSE to leave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pers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n't fit in the 3rd coven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ed a place to go where th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find governm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&amp; the English Col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06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World to become a Purit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6040" indent="-3052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ter to go to the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6040" indent="-3052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tty on a hil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2840" indent="-30528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eacon light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2720" indent="-338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to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6040" indent="-3052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 was to purify America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return to England to sav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grims (travele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ist” Puritans who didn’t wish to save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 for Holland for a time however, the Catholic influence strengthened in Holland  (present day Netherla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ed to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20 New Plym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grims left for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flower  ship with 101 people (Bradf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ing for Jamestown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 algn="just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 course or chose own location ended in Cape Cod near Bo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1/2 months  - arriving in November (c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ans greeted them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5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lped them through win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5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Squanto or English fishermen 1580-90'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20 New Plym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flower Compact 16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for democratic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of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single civil body politic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ity rule - volunt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set up some form of government at later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st representative government in New World - social contrac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a representative government a new id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12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e of Burgess - 161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st elec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democr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pure democr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representative democr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29 Massachusetts Bay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ohn Winthrop - Puritan received cha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ock holders - investors in colon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chasers of charters (or stock holder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arters stayed in England so wh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ods come back on ship,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ock holders taxed goo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arter came over with Massachuset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y Co. 1930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29 Massachusetts Bay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 ships 1000 people settle where Boston             is is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pared - no hardsh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90000"/>
              </a:lnSpc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ast to Jamestown &amp; Pilgri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reat Migra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f 1630 - 1640'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90000"/>
              </a:lnSpc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,000 Puritans to Massachuset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ohn Winthrop/Cotton Mather legisl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lnSpc>
                <a:spcPct val="90000"/>
              </a:lnSpc>
              <a:spcBef>
                <a:spcPts val="6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pt control of the church/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ism is a one generation id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rity alters id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hing, shipping, fur tr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ful to God for their prosp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ion of concept of God reward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deeds with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ism is al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lth became a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world environment (land &amp;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gacy of Purit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sed values to future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udence - clear think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making emotional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blic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ri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enny saved is a penny 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Franklin's "waste not - want no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ipline - self discipl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ation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rd work is rewar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e hands are the devil's worksho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gacy of Purit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ed values to future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Protestant Work E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Prudence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i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r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STANT WORK ETHIC  -----&gt;  CAPI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ideas go hand in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e we losing the Legacy of the Purit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 we are losing values of hard work, thrift &amp; discip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erism/credi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you are what you ow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s took control of Engla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50's Cromw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s beheaded King - revol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a few Puritans ever returned from the colonies to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on American culture i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s our country really founded on freedom of relig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the goal of the Puritans religious freedom for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the intent of the English in resettling the religious disson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religious in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e Hutchin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sted because of prayer meetings in her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ger Willia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Rhode Island - didn't agree with M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y Co. Puritans &amp; lef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 - Pulling I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itanism in America introduced concept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urch &amp; State (Theocra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&amp;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rity &amp; Godl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Work E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id the Puritans get their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ere some called separat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were the pilgri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Citty on a h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re the concepts of Puritan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3 way covena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ir legacy to American cul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17 Protestant Re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stors who wished to reform the Catholic Chu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tin Luther’s 95 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32 Henry VIII,  King of England creat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glican Church (Church of Eng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stantism - in name on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ing same as Pope with appointed cardi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glican Church was Catholicism practice &amp; rit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tholic church in disguis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itanism &amp;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Englishmen protest against the Anglican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to “purify” Eng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ainst Henry’s mild English theoc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le, prejudice against those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Anglican chu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 no offices can be h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esthood of th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58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liefs of the Purit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ree Way Cove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st cove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individual &amp; G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iritual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you sure of your predest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nd cove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individual &amp; con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 so wicked he needs help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mmunal spirituality)  stocks &amp; pi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s to abide by rul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 no dan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58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liefs of the Puri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 Way Cov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st coven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individual &amp; G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nd coven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individual &amp; con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rd coven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ongregation  &amp;  stat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ild theocra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s to make reform through civil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enforce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uritanis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&amp;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iefs of the Puri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uritanism &amp; the English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itanism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cy of Purit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22:56:17Z</dcterms:created>
  <dc:creator>Trial User</dc:creator>
  <dc:description/>
  <dc:language>en-US</dc:language>
  <cp:lastModifiedBy>Teacher</cp:lastModifiedBy>
  <dcterms:modified xsi:type="dcterms:W3CDTF">2009-09-21T00:24:20Z</dcterms:modified>
  <cp:revision>115</cp:revision>
  <dc:subject/>
  <dc:title>PURITANISM</dc:title>
</cp:coreProperties>
</file>